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09D7-7AC7-42B3-B261-31D233B35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9704-2B85-42DD-A1C7-0BA91D96F03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682-B26F-4FEF-A51E-100D26E5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E8D-4046-494B-A8AB-6F799CDE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9B2-D486-4C64-A6B0-64C49CE7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7B9-78DF-4A92-B0AF-75BED912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6A9-4277-4A80-BF1A-6881505A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496-6939-44E0-B87D-E920889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79F-A6C7-4502-BF9B-4C04FC70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E17-0CDB-470A-BE85-39E632F6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044-38F9-4C10-82E1-C6D0DC2A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689-28EF-4818-A6E4-C8992A2E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298-8074-431D-A19F-066C668B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8CC-AE0B-4AD9-A0BD-EBE47E60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182B-E6E5-4042-BC31-58A811712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24000" y="-379080"/>
            <a:ext cx="8569080" cy="62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Результа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обного ОГЭ по русскому языку, проведё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декабря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года и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марта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8000" y="825480"/>
          <a:ext cx="8567640" cy="5926320"/>
        </p:xfrm>
        <a:graphic>
          <a:graphicData uri="http://schemas.openxmlformats.org/drawingml/2006/table">
            <a:tbl>
              <a:tblPr/>
              <a:tblGrid>
                <a:gridCol w="3271680"/>
                <a:gridCol w="1324080"/>
                <a:gridCol w="1324080"/>
                <a:gridCol w="1323720"/>
                <a:gridCol w="132408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1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2  (3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3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4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5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1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сочинения-рас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очинение-рассуждение (СК1-СК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8000" y="825480"/>
          <a:ext cx="8640720" cy="5869080"/>
        </p:xfrm>
        <a:graphic>
          <a:graphicData uri="http://schemas.openxmlformats.org/drawingml/2006/table">
            <a:tbl>
              <a:tblPr/>
              <a:tblGrid>
                <a:gridCol w="2857320"/>
                <a:gridCol w="1157400"/>
                <a:gridCol w="1155600"/>
                <a:gridCol w="1157400"/>
                <a:gridCol w="1155600"/>
                <a:gridCol w="115740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2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3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4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4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по грамотности и фактической точности экзаменуем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Грамотность и фактическая точность экзаменуемого (ГК1-ГК4, ФК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95280" y="189000"/>
            <a:ext cx="84247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Общие результаты выполн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роб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о Верхнеуслонскому муниципальному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2060640"/>
          <a:ext cx="8496000" cy="4052880"/>
        </p:xfrm>
        <a:graphic>
          <a:graphicData uri="http://schemas.openxmlformats.org/drawingml/2006/table">
            <a:tbl>
              <a:tblPr/>
              <a:tblGrid>
                <a:gridCol w="1654200"/>
                <a:gridCol w="1779480"/>
                <a:gridCol w="1265040"/>
                <a:gridCol w="1266840"/>
                <a:gridCol w="1263600"/>
                <a:gridCol w="126684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ававших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отметка в % от числа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2.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3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 (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(9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7 (47,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 (47,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(27,5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2  (31,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 (11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9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42, 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12"/>
          <p:cNvSpPr/>
          <p:nvPr/>
        </p:nvSpPr>
        <p:spPr>
          <a:xfrm>
            <a:off x="900000" y="26028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765000"/>
          <a:ext cx="8856720" cy="5772240"/>
        </p:xfrm>
        <a:graphic>
          <a:graphicData uri="http://schemas.openxmlformats.org/drawingml/2006/table">
            <a:tbl>
              <a:tblPr/>
              <a:tblGrid>
                <a:gridCol w="399960"/>
                <a:gridCol w="2551320"/>
                <a:gridCol w="1412640"/>
                <a:gridCol w="1123920"/>
                <a:gridCol w="1123920"/>
                <a:gridCol w="1122480"/>
                <a:gridCol w="112248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ащихся, писавших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50"/>
          <p:cNvSpPr/>
          <p:nvPr/>
        </p:nvSpPr>
        <p:spPr>
          <a:xfrm>
            <a:off x="826920" y="1159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Средняя оценка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836640"/>
          <a:ext cx="8785440" cy="5761080"/>
        </p:xfrm>
        <a:graphic>
          <a:graphicData uri="http://schemas.openxmlformats.org/drawingml/2006/table">
            <a:tbl>
              <a:tblPr/>
              <a:tblGrid>
                <a:gridCol w="619200"/>
                <a:gridCol w="5208480"/>
                <a:gridCol w="2957760"/>
              </a:tblGrid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овая часть (№2-№8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457200" y="1557360"/>
          <a:ext cx="82296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57360"/>
                    <a:ext cx="82296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Тестовая часть (задания 2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825480"/>
          <a:ext cx="8712000" cy="5843520"/>
        </p:xfrm>
        <a:graphic>
          <a:graphicData uri="http://schemas.openxmlformats.org/drawingml/2006/table">
            <a:tbl>
              <a:tblPr/>
              <a:tblGrid>
                <a:gridCol w="2273400"/>
                <a:gridCol w="919080"/>
                <a:gridCol w="919080"/>
                <a:gridCol w="920880"/>
                <a:gridCol w="919080"/>
                <a:gridCol w="919080"/>
                <a:gridCol w="920880"/>
                <a:gridCol w="92052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0" y="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тестовой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20" y="925560"/>
          <a:ext cx="8672400" cy="5394240"/>
        </p:xfrm>
        <a:graphic>
          <a:graphicData uri="http://schemas.openxmlformats.org/drawingml/2006/table">
            <a:tbl>
              <a:tblPr/>
              <a:tblGrid>
                <a:gridCol w="3416040"/>
                <a:gridCol w="1871640"/>
                <a:gridCol w="1783080"/>
                <a:gridCol w="1601640"/>
              </a:tblGrid>
              <a:tr h="260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1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2 (3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3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4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11592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по написанию сжатого изложения (</a:t>
            </a:r>
            <a:r>
              <a:rPr b="1" lang="en-US" sz="2400" spc="-1" strike="noStrike">
                <a:solidFill>
                  <a:srgbClr val="c00000"/>
                </a:solidFill>
                <a:latin typeface="Monotype Corsiva"/>
              </a:rPr>
              <a:t>max 7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баллов)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жатое изложение (ИК1-ИК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6:38Z</dcterms:created>
  <dc:creator>Admin</dc:creator>
  <dc:description/>
  <dc:language>en-US</dc:language>
  <cp:lastModifiedBy>user</cp:lastModifiedBy>
  <dcterms:modified xsi:type="dcterms:W3CDTF">2022-04-15T04:28:15Z</dcterms:modified>
  <cp:revision>74</cp:revision>
  <dc:subject/>
  <dc:title>Слайд 1</dc:title>
</cp:coreProperties>
</file>